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8E26-1711-4CA8-B667-E53B3475C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remove the tarnish by multiplying both sides of the equation by the reciprocal of the number that is the “tarnish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is slide, putting an explanation below each equation of how you would use the mud and tarnish to solve the equation, such 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add 5 to both sides of the equation, and then divide both sides of the equation by 4…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is slide to make up your own mud/tarnish problem, showing each step in solving the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63926-B581-4569-8EA3-094556D6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848D7-DBF3-4E62-9B32-A356F30B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361D0-4B70-49C3-B065-5358C8C30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6D3B6-A862-45D1-A33C-25732F09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636ED-D21F-47F7-BBF8-1D2540DA2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4137A-44CB-4126-A0FB-993E813B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D4CF-9E9D-4D0D-8FCC-BE71BC16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318B-BEB8-4BC8-8534-32F85381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394F3-9230-4365-895C-B9E78035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B869D-A294-40A6-8874-28E22AF38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BC8E-B289-4991-8A91-AFCAEAA0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4F09B-4101-491F-AEA9-B8A3D8F85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D3E1-E76C-41E4-B22D-AE86802BE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9BAFD-C0C8-445F-8C50-3A3B39A2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0866-6278-43E5-91B7-2B98D0DF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9903-462D-44FC-87BB-C24EA8F8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A53FC-0677-4D05-B26F-AFFEEDC83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62358-3894-4949-B0E7-DF1EA1FC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0E90C-BD0C-489B-97B5-97D56458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CC10F-58D6-4EA1-A62A-AC4D6357A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2EE9-AB27-4F6A-A104-3AF37BAA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72978-0BE1-4030-8A44-7E270F72A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EE4A3-4F04-4F46-8BAD-03281A7C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8D56A-4DD4-4895-8212-42D01F2F6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2EE9-2489-473E-ABD5-78B0674A2C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0ADDA-EF61-4040-B740-1314ECE3C0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speUm12vPg&amp;mode=related&amp;search=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1.xml"/><Relationship Id="rId3" Type="http://schemas.openxmlformats.org/officeDocument/2006/relationships/slide" Target="slide11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olving Single Variable Linear Equations 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(The Mud/Tarnish problem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By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Rhonda Renker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8108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What are the steps in solving an linear equation with one variable using the mud/tarnish strateg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TEP 1: Identify the MUD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solidFill>
            <a:srgbClr val="0000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UD is the number that is on the same side of the equation as the variable you are solving f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UD i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dd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btract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o tha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o remove the MUD, perform the inverse operation to the equation on both sides, using that same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x + 4 = 6    Four is added to 2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ubtract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4 from both sides of the eq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x - 3  = 4.  Three is subtracted from 7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Add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3 to both sides of the eq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ep 2: Identify the TARN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RNISH is the number tha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ltipli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vi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variable that you are solving for (such as 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emove the TARNISH, perform  the inverse operation to the equation on both sides, using that same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2x = 4       Two is multiplied times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th sides of the equation by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x/3 = 6       x is divided by th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th sides of the equation by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There are different ways to look at how to solve a linear equation with one variable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see a </a:t>
            </a:r>
            <a:r>
              <a:rPr b="0" lang="en-US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cool video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about it?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on the link above to watch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identify the MUD (Step 1)and TARNISH (Step 2) in these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x + 2 = 1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+ 2    Tarnish:  x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x = 2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0       Tarnish:  x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x – 4 = 4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-4      Tarnish: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/3 – 8 = 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-8      Tarnish: Divide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936960" y="24764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6960" y="24764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w that you can identify the MUD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d TARNISH, explain how to use this information to solve the following equ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x + 2 = 12 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+ 2    Tarnish:  x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ubtract 2 from both sides, and then divide both sides by 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x – 4 = 4  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-4      Tarnish: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dd 4 to both sides, and then divide both sides by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How would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you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finish this probl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/3 – 8 = 13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-8      Tarnish: Divide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3936960" y="247644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36960" y="24764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You can use the “mud/tarnish” strategy to solve many types of algebra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7991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one variable like the ones you’ve just se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more than one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the other variables as if they were just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d and tarnish”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fractions, square roots, even complex numb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ypes of numbers and variabl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“mud and tarnish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(type your name here) solved a single variable linear equation using the mud/tarnish strateg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your equation he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n show your classmates how to solve it, using this slid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15200" cy="76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is another way to look at solving linear equation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14400" y="743040"/>
            <a:ext cx="7467480" cy="6086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, when you are solving equations using the mud/tarnish metho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343400" cy="441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 of the equation  remaining after you clean off the mud and tarn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you are solving fo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it repres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ariable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ing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819760" y="3360600"/>
            <a:ext cx="3071880" cy="204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single variable equations can seem tricky, at first, so begin by asking yourself several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solve the equation 3x + 5 = 14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I broke the problem down into step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I do for the first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I do for the second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know what part of the equation to use for each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nformal Roman"/>
              </a:rPr>
              <a:t>    </a:t>
            </a:r>
            <a:r>
              <a:rPr b="0" lang="en-US" sz="7200" spc="-1" strike="noStrike">
                <a:solidFill>
                  <a:srgbClr val="000000"/>
                </a:solidFill>
                <a:latin typeface="Informal Roman"/>
              </a:rPr>
              <a:t>THE    END</a:t>
            </a:r>
            <a:br>
              <a:rPr sz="72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r work is done, but the treasure hunters are still digging in the mu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724200" y="3360600"/>
            <a:ext cx="1693800" cy="11257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1676520" y="2209680"/>
            <a:ext cx="6086520" cy="427680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72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o solve a problem, it helps to relate it to something that is entirely differ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si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lat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5 = 1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lieve: Cleaning the muddy, tarnished rings of ancient Roman sold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we start to solve our algebra problem, we need to learn a little about these Romans and their r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2286000"/>
            <a:ext cx="4267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 years ago, Roman soldiers fought  battles against fierce tribes in what is now Eur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oldiers buried their rings and other jewelry before battle to protect their valu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oldiers died in battl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, the soldiers survived the battle, but just couldn’t remember where they had buried their jewelry.  (They must have dug a lot of holes trying to find 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today, people with metal detectors in England, Germany, and even in Eastern Europe find this jewelry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2265480" cy="33530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y find Roman rings in the m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these rings are clea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se rings ar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mud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ese rings are 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tarnis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usually, these rings are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tarnish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ud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38520" cy="2411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23880" y="42195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pretend YOU found a Roman ring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and it was muddy AND tarnish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How woul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ean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4573440" cy="3379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on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e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ring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u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or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rn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m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n the outside of the r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t is what you would clean off fir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lean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arn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harder to clean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ould clean it of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let’s compare the mud and tarnish to parts of our equ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3 x + 5 =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UD in this equ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 5 is the mud.  It is the easiest part of the equation to “clean up”, as it is only added to the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get rid of the mu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We “wash off” the mud, 5,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trac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oth sides of the equ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subtracting 5 is the inverse of adding 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x + 5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14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x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the mud is gone, what is the                        TARNISH in the equa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3x = 9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RNISH is the number 3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“attached” to x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“remove the tarnish”, you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th sides of the equation by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3  because division is the inverse operation of multi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x / 3 = 9 /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03:13:47Z</dcterms:created>
  <dc:creator>Rhonda Renker</dc:creator>
  <dc:description/>
  <dc:language>en-US</dc:language>
  <cp:lastModifiedBy>Rhonda Jones</cp:lastModifiedBy>
  <dcterms:modified xsi:type="dcterms:W3CDTF">2007-03-07T03:08:42Z</dcterms:modified>
  <cp:revision>37</cp:revision>
  <dc:subject/>
  <dc:title>Solving Single Variable Equations</dc:title>
</cp:coreProperties>
</file>